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0.gif" ContentType="image/gif"/>
  <Override PartName="/ppt/media/image13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22.jpeg" ContentType="image/jpeg"/>
  <Override PartName="/ppt/media/image39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42.gif" ContentType="image/gif"/>
  <Override PartName="/ppt/media/image43.jpeg" ContentType="image/jpeg"/>
  <Override PartName="/ppt/media/image36.png" ContentType="image/png"/>
  <Override PartName="/ppt/media/image37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3C2-3D70-4758-88DC-AAD3B767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A03-6287-4F89-95E4-C133F452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3EC-E912-4EA4-8535-CDC89CDA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888-50E7-405B-9A09-7A788D5A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9F8F-4BF9-48E3-80E2-933AC9E4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0EE8-09D2-483C-BF08-4FC3C740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974F-09ED-4B4F-98BC-0C57E4C2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6CB1-7595-46B9-9FF6-A50803A0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D7C6-C8BE-4665-8A2C-53A9E5E0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F9B9-F7F3-47B8-8900-81B1AACE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1123-3701-444E-9EF5-DFC62BCA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2ED-EF2B-4E9B-9A4E-5A18B8AB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04D6-B89C-463C-89C7-83A8F294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8EA5-1AEE-4BC5-ADA4-FFFD752B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DF9B-E2EA-459A-B2CD-7219D1F9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15AF-F350-49A5-9F61-794CE838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575D-942F-452B-B90D-DED984B7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CD561-0769-4E3F-95FF-9032D298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3ECD8-F0B9-4BFC-9CF7-D9165DD0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524DE-A3E8-422B-A66D-48D13A86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C2A62-5D16-4F77-9814-B3756C9F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C52C-3C1C-4E67-B475-E8F82A6A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E4DC-5603-4BBD-943B-2412C628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40C78-7AB6-45A4-ACE1-B6DE7CB2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85633-D041-4775-BF42-18505C32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E6E40-7900-4EB5-903B-5CDC6151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C766F-9C80-4488-B0D7-35CEC677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E1D19-6655-42F7-8448-1DF8A817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E2560-6234-4C4F-A438-8BC1ABB5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D7C18-3DF6-4406-BD20-DD6829E8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D3A-9D5A-4321-93EB-9967B11E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67C-3FA5-49A3-81E7-B8E8DE4A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DA8-6635-402F-91F2-E602EB84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114-2354-47B3-81C9-77AC25E9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C435-676B-41EE-BD23-3FA9D284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FAE2-22ED-4600-A3DC-A6A60A14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DD66-2209-48D0-A28A-FC7DE7276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1746-9130-4738-8CD3-EA5DD9961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21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B7B1-2EF3-4DF6-BF2A-AE85C6B50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9400" y="1157400"/>
            <a:ext cx="7602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9a0000"/>
                </a:solidFill>
                <a:latin typeface="Georgia"/>
              </a:rPr>
              <a:t>Cell Growth and Division</a:t>
            </a: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eorgia"/>
              </a:rPr>
              <a:t>Mitotic  &amp; Meiotic Stages of Cellular Division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Georgia"/>
              </a:rPr>
              <a:t>Cell Division</a:t>
            </a: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- </a:t>
            </a:r>
            <a:r>
              <a:rPr b="0" i="1" lang="en-US" sz="3200" spc="-1" strike="noStrike">
                <a:solidFill>
                  <a:srgbClr val="003366"/>
                </a:solidFill>
                <a:latin typeface="Georgia"/>
              </a:rPr>
              <a:t>When do cells divide?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ells divide continuousl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ight no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d now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d now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Georg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d now. .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owing, dividing, and dy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event cells from becoming too larg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plenish lost cell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71200" y="556920"/>
            <a:ext cx="8163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Georgia"/>
              </a:rPr>
              <a:t>Cell Division</a:t>
            </a:r>
            <a:r>
              <a:rPr b="0" lang="en-US" sz="3200" spc="-1" strike="noStrike">
                <a:solidFill>
                  <a:srgbClr val="003366"/>
                </a:solidFill>
                <a:latin typeface="Georgia"/>
              </a:rPr>
              <a:t>- the process by which a cell divides into new </a:t>
            </a:r>
            <a:r>
              <a:rPr b="0" lang="en-US" sz="3200" spc="-1" strike="noStrike">
                <a:solidFill>
                  <a:srgbClr val="9a0000"/>
                </a:solidFill>
                <a:latin typeface="Georgia"/>
              </a:rPr>
              <a:t>daughter cells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wo Forms of Cell Divis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tos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ios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Georgia"/>
              </a:rPr>
              <a:t>Before each cell division, each cell must first copy its genetic information; each daughter cell then gets a complete copy of that informa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a0000"/>
                </a:solidFill>
                <a:uFillTx/>
                <a:latin typeface="Georgia"/>
              </a:rPr>
              <a:t>Mito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ody cells (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somatic cell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du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copies (clon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 genetically identical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Georgia"/>
              </a:rPr>
              <a:t>diploi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daughter cel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a0000"/>
                </a:solidFill>
                <a:uFillTx/>
                <a:latin typeface="Georgia"/>
              </a:rPr>
              <a:t>Meio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erm layer cel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051560" indent="-210240">
              <a:spcBef>
                <a:spcPts val="400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Give rise to Sex cells (gametes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51560" indent="-210240">
              <a:spcBef>
                <a:spcPts val="45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varies/ Test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051560" indent="-210240">
              <a:spcBef>
                <a:spcPts val="45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Egg and Sperm Cells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duc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genetically differen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cel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 genetically different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Georgia"/>
              </a:rPr>
              <a:t>haploid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daughter cel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051560" indent="-210240">
              <a:spcBef>
                <a:spcPts val="45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 sperm cell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051560" indent="-210240">
              <a:spcBef>
                <a:spcPts val="45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 egg cell, 3 polar bodi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http://fig.cox.miami.edu/~cmallery/150/mitosis/c13x8meiosis-comparison.jpg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99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Genetic Terminology 101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a0000"/>
                </a:solidFill>
                <a:uFillTx/>
                <a:latin typeface="Georgia"/>
              </a:rPr>
              <a:t>DN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deoxyribonucleic aci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enetic inform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Georgia"/>
              </a:rPr>
              <a:t>Gen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a specific segment of DNA that codes for a prote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Georgia"/>
              </a:rPr>
              <a:t>Chromati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strands of uncoiled DNA wrapped around protein molecules (histone &amp; nucleosome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st common form of chromosom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rands shorten, thicken, and condense, forming distinct chromosomes (occurs before a cell begins to divid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Georgia"/>
              </a:rPr>
              <a:t>Chromosom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condensed strands of DNA that serve as carriers of genetic material during cell divis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nly visible during cell divis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ndensed, tightly-packed chromati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arkly staining structure that contains DN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http://users.ntua.gr/sofial/DNA.jpg"/>
          <p:cNvPicPr/>
          <p:nvPr/>
        </p:nvPicPr>
        <p:blipFill>
          <a:blip r:embed="rId1"/>
          <a:stretch/>
        </p:blipFill>
        <p:spPr>
          <a:xfrm>
            <a:off x="0" y="152280"/>
            <a:ext cx="5257800" cy="6400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http://cmgm.stanford.edu/biochem201/Slides/Chromatin%20Structure/15%20EM%20of%20Chromatin%20Solenoid.JPG"/>
          <p:cNvPicPr/>
          <p:nvPr/>
        </p:nvPicPr>
        <p:blipFill>
          <a:blip r:embed="rId2"/>
          <a:stretch/>
        </p:blipFill>
        <p:spPr>
          <a:xfrm>
            <a:off x="4846680" y="152280"/>
            <a:ext cx="42973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Chromosome Anatomy 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ort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ong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ntromer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inetochor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n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mologous Chromosom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ngle-stranded chromosom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0840" indent="-26568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romatid (single-stranded chromosom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uble-stranded chromosom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0840" indent="-26568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ster Chromatids (double-stranded chromosom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http://www.ualr.edu/~botany/chromosome.jpg"/>
          <p:cNvPicPr/>
          <p:nvPr/>
        </p:nvPicPr>
        <p:blipFill>
          <a:blip r:embed="rId1"/>
          <a:stretch/>
        </p:blipFill>
        <p:spPr>
          <a:xfrm>
            <a:off x="0" y="0"/>
            <a:ext cx="8218440" cy="61610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http://wappingersschools.org/RCK/staff/teacherhp/johnson/visualvocab/Centromere.jpg"/>
          <p:cNvPicPr/>
          <p:nvPr/>
        </p:nvPicPr>
        <p:blipFill>
          <a:blip r:embed="rId2"/>
          <a:srcRect l="15800" t="0" r="23601" b="0"/>
          <a:stretch/>
        </p:blipFill>
        <p:spPr>
          <a:xfrm>
            <a:off x="7197840" y="2666880"/>
            <a:ext cx="194616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Chromosome Numbers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cells of every living organism have a specific number of chromosomes (not related to complexity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uit fly = 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arrot = 1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umans = 4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Georgia"/>
              </a:rPr>
              <a:t>Diploid Numbe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en-US" sz="2400" spc="-1" strike="noStrike">
                <a:solidFill>
                  <a:srgbClr val="336699"/>
                </a:solidFill>
                <a:latin typeface="Georgia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 - full set of chromosomes (humans = 46);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somatic cel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Georgia"/>
              </a:rPr>
              <a:t>Haploid Numbe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en-US" sz="2400" spc="-1" strike="noStrike">
                <a:solidFill>
                  <a:srgbClr val="336699"/>
                </a:solidFill>
                <a:latin typeface="Georg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- half set of chromosom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humans = 23);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germ cells (gametes)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http://morgan.rutgers.edu/morganwebframes/level1/page2/ChromNum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The Cell Cycle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a0000"/>
                </a:solidFill>
                <a:latin typeface="Georgia"/>
              </a:rPr>
              <a:t>The sequence (cycle) of growth and division of a cel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Georgia"/>
              </a:rPr>
              <a:t>WHY ARE CELLS SO SMALL?</a:t>
            </a:r>
            <a:endParaRPr b="0" lang="en-US" sz="40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The Cell Cycle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pic>
        <p:nvPicPr>
          <p:cNvPr id="351" name="Picture 4" descr="http://www.bmb.psu.edu/courses/biotc489/notes/cycle.jpg"/>
          <p:cNvPicPr/>
          <p:nvPr/>
        </p:nvPicPr>
        <p:blipFill>
          <a:blip r:embed="rId1"/>
          <a:stretch/>
        </p:blipFill>
        <p:spPr>
          <a:xfrm>
            <a:off x="2286000" y="1752480"/>
            <a:ext cx="4876920" cy="4851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uring the cell cycle, a cell grows, prepares for division, and divides to form new daughter cells, each of which will then enter the cycle again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66640" indent="-5666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ell Cycle consists of two main par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275480" indent="-425160">
              <a:spcBef>
                <a:spcPts val="601"/>
              </a:spcBef>
              <a:buClr>
                <a:srgbClr val="00336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Interpha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275480" indent="-425160">
              <a:spcBef>
                <a:spcPts val="601"/>
              </a:spcBef>
              <a:buClr>
                <a:srgbClr val="00336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Mitosi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71200" y="374400"/>
            <a:ext cx="816300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6337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Georgia"/>
              </a:rPr>
              <a:t>1.  Interphase</a:t>
            </a: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- cell growth, preparation, DNA duplication, daily metabolism</a:t>
            </a: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71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st of the time (95% of the tim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tween 21 and 23 hours (depends on cell typ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Georgia"/>
              </a:rPr>
              <a:t>G</a:t>
            </a:r>
            <a:r>
              <a:rPr b="1" lang="en-US" sz="2000" spc="-1" strike="noStrike" baseline="-25000">
                <a:solidFill>
                  <a:srgbClr val="336699"/>
                </a:solidFill>
                <a:latin typeface="Georg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(GAP/ growth)- rapid growth, centrioles replicate, protein synthesi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Georgi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 (Synthesis)- DNA (chromosomes) are duplicated; single-stranded to double-stranded chromosome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000"/>
                </a:solidFill>
                <a:latin typeface="Georgia"/>
              </a:rPr>
              <a:t>Why are chromosomes copied prior to cell division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Georgia"/>
              </a:rPr>
              <a:t>G</a:t>
            </a:r>
            <a:r>
              <a:rPr b="1" lang="en-US" sz="2000" spc="-1" strike="noStrike" baseline="-25000">
                <a:solidFill>
                  <a:srgbClr val="336699"/>
                </a:solidFill>
                <a:latin typeface="Georg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(GAP/ growth)- more growth, organelles copied, final preparations before mitosis and cell divisio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Georgia"/>
              </a:rPr>
              <a:t>G</a:t>
            </a:r>
            <a:r>
              <a:rPr b="1" lang="en-US" sz="2000" spc="-1" strike="noStrike" baseline="-25000">
                <a:solidFill>
                  <a:srgbClr val="336699"/>
                </a:solidFill>
                <a:latin typeface="Georgi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 Some cells (nerve) enter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and remain until stimulated to divide; may be permanen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71200" y="1044360"/>
            <a:ext cx="81630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Georgia"/>
              </a:rPr>
              <a:t>2.</a:t>
            </a:r>
            <a:r>
              <a:rPr b="0" lang="en-US" sz="3200" spc="-1" strike="noStrike">
                <a:solidFill>
                  <a:srgbClr val="003366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9a0000"/>
                </a:solidFill>
                <a:latin typeface="Georgia"/>
              </a:rPr>
              <a:t>Mitos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division stage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ivision of the nucleus, followed by the division of the cytoplasm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tart with one cell and you produce two “</a:t>
            </a:r>
            <a:r>
              <a:rPr b="0" lang="en-US" sz="3200" spc="-1" strike="noStrike">
                <a:solidFill>
                  <a:srgbClr val="336699"/>
                </a:solidFill>
                <a:latin typeface="Georgia"/>
              </a:rPr>
              <a:t>identical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” daughter cell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ivided into 4 distinct stag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Propha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Metapha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Anapha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Telophas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http://images.clinicaltools.com/images/gene/mitosis.jpg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6735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a0000"/>
                </a:solidFill>
                <a:uFillTx/>
                <a:latin typeface="Georgia"/>
              </a:rPr>
              <a:t>Interphase</a:t>
            </a: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- not considered a stage of mitosis (period between cell division)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43240" y="1905120"/>
            <a:ext cx="3979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Tra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ll is diploid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46 double-stranded chromosome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ll is non-divid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formed chromosome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chromati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ntrioles are together</a:t>
            </a: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en-US" sz="1800" spc="-1" strike="noStrike">
                <a:solidFill>
                  <a:srgbClr val="9a0000"/>
                </a:solidFill>
                <a:latin typeface="Georgia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lant cells lack centrioles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247032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Picture 13" descr="Interphase"/>
          <p:cNvPicPr/>
          <p:nvPr/>
        </p:nvPicPr>
        <p:blipFill>
          <a:blip r:embed="rId1"/>
          <a:stretch/>
        </p:blipFill>
        <p:spPr>
          <a:xfrm>
            <a:off x="912960" y="2508120"/>
            <a:ext cx="397800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Georgia"/>
              </a:rPr>
              <a:t>Prophase</a:t>
            </a: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 (</a:t>
            </a:r>
            <a:r>
              <a:rPr b="0" lang="en-US" sz="2800" spc="-1" strike="noStrike">
                <a:solidFill>
                  <a:srgbClr val="336699"/>
                </a:solidFill>
                <a:latin typeface="Georgia"/>
              </a:rPr>
              <a:t>Early</a:t>
            </a: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): Beginning stage of Mitosis 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Trai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01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01480" indent="-501480"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entrioles separate and move in opposite directions towards the po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01480" indent="-501480"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Georgia"/>
              </a:rPr>
              <a:t>Spindle fiber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(microtubules)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begin to f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01480" indent="-501480"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uclear envelope begins to disappear (fragment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01480" indent="-501480">
              <a:spcBef>
                <a:spcPts val="45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6 d.s. Chromosomes start to form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(chromatin condenses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247032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5" name="Picture 12" descr="Early Prophase"/>
          <p:cNvPicPr/>
          <p:nvPr/>
        </p:nvPicPr>
        <p:blipFill>
          <a:blip r:embed="rId1"/>
          <a:stretch/>
        </p:blipFill>
        <p:spPr>
          <a:xfrm>
            <a:off x="912960" y="2508120"/>
            <a:ext cx="397800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Georgia"/>
              </a:rPr>
              <a:t>Prophase</a:t>
            </a: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en-US" sz="2800" spc="-1" strike="noStrike">
                <a:solidFill>
                  <a:srgbClr val="336699"/>
                </a:solidFill>
                <a:latin typeface="Georgia"/>
              </a:rPr>
              <a:t>Lat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Trai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28120" indent="-528120">
              <a:spcBef>
                <a:spcPts val="45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uclear envelope gon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28120" indent="-528120">
              <a:spcBef>
                <a:spcPts val="45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entrioles are at opposite pol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28120" indent="-528120">
              <a:spcBef>
                <a:spcPts val="45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hromosomes attach to the spindle apparatus at the (</a:t>
            </a:r>
            <a:r>
              <a:rPr b="0" lang="en-US" sz="1800" spc="-1" strike="noStrike">
                <a:solidFill>
                  <a:srgbClr val="9a0000"/>
                </a:solidFill>
                <a:latin typeface="Georgia"/>
              </a:rPr>
              <a:t>kinetochor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1800" spc="-1" strike="noStrike">
                <a:solidFill>
                  <a:srgbClr val="9a0000"/>
                </a:solidFill>
                <a:latin typeface="Georgia"/>
              </a:rPr>
              <a:t>centromeres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and begin to move towards the center of the cel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28120" indent="-528120">
              <a:spcBef>
                <a:spcPts val="45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ne double-stranded chromosome on each spindle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336699"/>
                </a:solidFill>
                <a:latin typeface="Georgia"/>
              </a:rPr>
              <a:t>Spindle apparatus is like a football or bird cag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Picture 7" descr="http://iws.ccccd.edu/jbeck/CellDivision%20web/LateProphase2.jpg"/>
          <p:cNvPicPr/>
          <p:nvPr/>
        </p:nvPicPr>
        <p:blipFill>
          <a:blip r:embed="rId1"/>
          <a:stretch/>
        </p:blipFill>
        <p:spPr>
          <a:xfrm>
            <a:off x="912960" y="2379600"/>
            <a:ext cx="3978000" cy="3241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Georgia"/>
              </a:rPr>
              <a:t>Metaphase</a:t>
            </a: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- “middle phase”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00600" y="1904760"/>
            <a:ext cx="4222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Tra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2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22120" indent="-222120">
              <a:spcBef>
                <a:spcPts val="700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46 double-stranded chromosomes line up at the center of the cell (</a:t>
            </a: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equato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2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2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Georgia"/>
              </a:rPr>
              <a:t>Due to the “tug-of-war” between the microtubules of the spindl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240984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2" name="Picture 12" descr="Metaphase"/>
          <p:cNvPicPr/>
          <p:nvPr/>
        </p:nvPicPr>
        <p:blipFill>
          <a:blip r:embed="rId1"/>
          <a:stretch/>
        </p:blipFill>
        <p:spPr>
          <a:xfrm>
            <a:off x="380880" y="2232000"/>
            <a:ext cx="3978360" cy="3687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Georgia"/>
              </a:rPr>
              <a:t>Anaphase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43600" y="1904760"/>
            <a:ext cx="4100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Trai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Georgia"/>
              </a:rPr>
              <a:t>Karyokinesi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 division of the nucleu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ouble-stranded chromosomes or “sister chromatids” split at their centromer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ach chromatid is pulled in opposite directions towards the po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Georgia"/>
              </a:rPr>
              <a:t>46 d.s. chromosomes </a:t>
            </a:r>
            <a:r>
              <a:rPr b="0" lang="en-US" sz="2000" spc="-1" strike="noStrike">
                <a:solidFill>
                  <a:srgbClr val="9a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9a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Georgia"/>
              </a:rPr>
              <a:t>92 s.s chromosom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336699"/>
                </a:solidFill>
                <a:latin typeface="Georgia"/>
              </a:rPr>
              <a:t>46 s.s. </a:t>
            </a:r>
            <a:r>
              <a:rPr b="0" lang="en-US" sz="2000" spc="-1" strike="noStrike">
                <a:solidFill>
                  <a:srgbClr val="336699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Georgia"/>
              </a:rPr>
              <a:t>46 s.s.</a:t>
            </a:r>
            <a:r>
              <a:rPr b="0" lang="en-US" sz="20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47032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6" name="Picture 12" descr="Anaphase"/>
          <p:cNvPicPr/>
          <p:nvPr/>
        </p:nvPicPr>
        <p:blipFill>
          <a:blip r:embed="rId1"/>
          <a:stretch/>
        </p:blipFill>
        <p:spPr>
          <a:xfrm>
            <a:off x="912960" y="2508120"/>
            <a:ext cx="397800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Surface-to-Volume Ratio (4:8)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ate at which cellular exchange takes place depends on the </a:t>
            </a:r>
            <a:r>
              <a:rPr b="0" lang="en-US" sz="3200" spc="-1" strike="noStrike" u="sng">
                <a:solidFill>
                  <a:srgbClr val="9a0000"/>
                </a:solidFill>
                <a:uFillTx/>
                <a:latin typeface="Georgia"/>
              </a:rPr>
              <a:t>Surface Are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f the cell (total area of its cell membran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ate at which food and oxygen are used up and waste products are produced (</a:t>
            </a:r>
            <a:r>
              <a:rPr b="0" lang="en-US" sz="3200" spc="-1" strike="noStrike">
                <a:solidFill>
                  <a:srgbClr val="003366"/>
                </a:solidFill>
                <a:latin typeface="Georgia"/>
              </a:rPr>
              <a:t>metabolism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) depends on the cell’s </a:t>
            </a:r>
            <a:r>
              <a:rPr b="0" lang="en-US" sz="3200" spc="-1" strike="noStrike" u="sng">
                <a:solidFill>
                  <a:srgbClr val="9a0000"/>
                </a:solidFill>
                <a:uFillTx/>
                <a:latin typeface="Georgia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Georgia"/>
              </a:rPr>
              <a:t>Telophase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Tra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Georgia"/>
              </a:rPr>
              <a:t>Cytokinesi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 division of the cytoplas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ell begins to pinch or cleave (</a:t>
            </a:r>
            <a:r>
              <a:rPr b="0" lang="en-US" sz="2000" spc="-1" strike="noStrike">
                <a:solidFill>
                  <a:srgbClr val="9a0000"/>
                </a:solidFill>
                <a:latin typeface="Georgia"/>
              </a:rPr>
              <a:t>furrow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ach cell returns to Interphase characteristic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spindle disappea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chromatin refor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nuclear envelope refor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wo identical daughter cells produc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diploid cells (46 s.s. chrom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9" name="Picture 12" descr="Telophase"/>
          <p:cNvPicPr/>
          <p:nvPr/>
        </p:nvPicPr>
        <p:blipFill>
          <a:blip r:embed="rId1"/>
          <a:stretch/>
        </p:blipFill>
        <p:spPr>
          <a:xfrm>
            <a:off x="457200" y="1828800"/>
            <a:ext cx="3429000" cy="2732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http://www.sirinet.net/~jgjohnso/modcleavage.jpg"/>
          <p:cNvPicPr/>
          <p:nvPr/>
        </p:nvPicPr>
        <p:blipFill>
          <a:blip r:embed="rId2"/>
          <a:stretch/>
        </p:blipFill>
        <p:spPr>
          <a:xfrm>
            <a:off x="3048120" y="3733920"/>
            <a:ext cx="1928520" cy="290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Georgia"/>
              </a:rPr>
              <a:t>Plant Cell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4800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lant cells lack centrioles; have a indistinguishable fibrous region instea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ytokinesis is accomplished by the formation of a </a:t>
            </a: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cell plat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instead of a cleavage furrow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83" name="Picture 9" descr="http://www.sirinet.net/~jgjohnso/modcellplate.jpg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2711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3" descr="http://www.bio.miami.edu/dana/250/mitosis.jpg"/>
          <p:cNvPicPr/>
          <p:nvPr/>
        </p:nvPicPr>
        <p:blipFill>
          <a:blip r:embed="rId1"/>
          <a:stretch/>
        </p:blipFill>
        <p:spPr>
          <a:xfrm>
            <a:off x="1752480" y="228600"/>
            <a:ext cx="542160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http://www.micro.utexas.edu/courses/levin/bio304/genetics/mitosis.gif"/>
          <p:cNvPicPr/>
          <p:nvPr/>
        </p:nvPicPr>
        <p:blipFill>
          <a:blip r:embed="rId1"/>
          <a:stretch/>
        </p:blipFill>
        <p:spPr>
          <a:xfrm>
            <a:off x="457200" y="98280"/>
            <a:ext cx="8229600" cy="6759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http://www.sci.sdsu.edu/multimedia/mitosis/mitosis_withtext.gif"/>
          <p:cNvPicPr/>
          <p:nvPr/>
        </p:nvPicPr>
        <p:blipFill>
          <a:blip r:embed="rId1"/>
          <a:stretch/>
        </p:blipFill>
        <p:spPr>
          <a:xfrm>
            <a:off x="1523880" y="228600"/>
            <a:ext cx="621684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2286000" y="3013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www.youtube.com/watch?v=aDAw2Zg4I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ttp://clt.astate.edu/mhuss/mitosis.jpg"/>
          <p:cNvPicPr/>
          <p:nvPr/>
        </p:nvPicPr>
        <p:blipFill>
          <a:blip r:embed="rId1"/>
          <a:stretch/>
        </p:blipFill>
        <p:spPr>
          <a:xfrm>
            <a:off x="2286000" y="304920"/>
            <a:ext cx="5181480" cy="5775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Mitotic Summary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the end, </a:t>
            </a:r>
            <a:r>
              <a:rPr b="0" lang="en-US" sz="2800" spc="-1" strike="noStrike">
                <a:solidFill>
                  <a:srgbClr val="9a0000"/>
                </a:solidFill>
                <a:latin typeface="Georgia"/>
              </a:rPr>
              <a:t>All cell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eproduce through mito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Georgia"/>
              </a:rPr>
              <a:t>Asexual reproducti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mitosis results in the formation of a complete new organis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Georgia"/>
              </a:rPr>
              <a:t>Sexual reproducti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mitosis is utilized to replenish, repair, and maintain cel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tosis makes copies of the original cel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duce two identical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Georgia"/>
              </a:rPr>
              <a:t>diploi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daughter cel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http://www.iupui.edu/~iutox/images/cancer%20cell.jpg"/>
          <p:cNvPicPr/>
          <p:nvPr/>
        </p:nvPicPr>
        <p:blipFill>
          <a:blip r:embed="rId1"/>
          <a:stretch/>
        </p:blipFill>
        <p:spPr>
          <a:xfrm>
            <a:off x="152280" y="914400"/>
            <a:ext cx="5326200" cy="4183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main title.jpg (22473 bytes)"/>
          <p:cNvPicPr/>
          <p:nvPr/>
        </p:nvPicPr>
        <p:blipFill>
          <a:blip r:embed="rId2"/>
          <a:srcRect l="24261" t="24000" r="4522" b="19267"/>
          <a:stretch/>
        </p:blipFill>
        <p:spPr>
          <a:xfrm>
            <a:off x="2514600" y="228600"/>
            <a:ext cx="6324480" cy="18288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ttp://www.learner.org/channel/courses/biology/images/archive/fullsize/1606_fs.jpg"/>
          <p:cNvPicPr/>
          <p:nvPr/>
        </p:nvPicPr>
        <p:blipFill>
          <a:blip r:embed="rId3"/>
          <a:stretch/>
        </p:blipFill>
        <p:spPr>
          <a:xfrm>
            <a:off x="4724280" y="3048120"/>
            <a:ext cx="3760920" cy="3429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http://info.cancerresearchuk.org/images/gpimages/ys_cell_division2"/>
          <p:cNvPicPr/>
          <p:nvPr/>
        </p:nvPicPr>
        <p:blipFill>
          <a:blip r:embed="rId4"/>
          <a:stretch/>
        </p:blipFill>
        <p:spPr>
          <a:xfrm>
            <a:off x="2209680" y="3581280"/>
            <a:ext cx="2876760" cy="2436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71200" y="250920"/>
            <a:ext cx="8163000" cy="13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a0000"/>
                </a:solidFill>
                <a:uFillTx/>
                <a:latin typeface="Georgia"/>
              </a:rPr>
              <a:t>Cell Cycle Regulation</a:t>
            </a: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- not all cells move through the cell cycle at the same rate or undergo the same number of divisions 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Georgia"/>
              </a:rPr>
              <a:t>Contact Inhibiti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usually stops cells from dividing when they come in contact with each oth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Georgia"/>
              </a:rPr>
              <a:t>Enzymatic Contro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(Enzyme = </a:t>
            </a:r>
            <a:r>
              <a:rPr b="0" lang="en-US" sz="2400" spc="-1" strike="noStrike">
                <a:solidFill>
                  <a:srgbClr val="9a0000"/>
                </a:solidFill>
                <a:latin typeface="Georgia"/>
              </a:rPr>
              <a:t>Cycli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; Cyclin regulates the timing of the cell cycl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Georgia"/>
              </a:rPr>
              <a:t>Internal Regulator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enzymes that respond to events inside the cel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717200" indent="-372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 mitosis until all chromosomes have been replicat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3" marL="1717200" indent="-372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 anaphase until all chromosomes are attached to mitotic spindl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Georgia"/>
              </a:rPr>
              <a:t>External Regulator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enzymes that respond to events outside the cel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717200" indent="-372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irect cells to speed up or slow down cell cycl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3" marL="1717200" indent="-372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Growth factors stimulate the growth and division of cells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3" marL="171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69480"/>
            <a:ext cx="81630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Georgia"/>
              </a:rPr>
              <a:t>As a cell’s size increases, its volume increases much faster than its surface area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magine a Cube-shaped cel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the side of the cell is doubled: </a:t>
            </a:r>
            <a:r>
              <a:rPr b="0" lang="en-US" sz="2800" spc="-1" strike="noStrike">
                <a:solidFill>
                  <a:srgbClr val="9a0000"/>
                </a:solidFill>
                <a:latin typeface="Georgia"/>
              </a:rPr>
              <a:t>surface are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creas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4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the side of the cell is doubled: </a:t>
            </a:r>
            <a:r>
              <a:rPr b="0" lang="en-US" sz="2800" spc="-1" strike="noStrike">
                <a:solidFill>
                  <a:srgbClr val="9a0000"/>
                </a:solidFill>
                <a:latin typeface="Georgia"/>
              </a:rPr>
              <a:t>volu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creas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8X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urface Area (cm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= length x width x number of sid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olume (cm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= length x width x heigh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3" descr="http://mil.citrus.cc.ca.us/cat2courses/bio104/ChapterNotes/images/ch8/0156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Uncontrolled Cell Growth and Division 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718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ack of, overproduction, or wrong timing in the release of enzymes can cause uncontrolled cell division or </a:t>
            </a:r>
            <a:r>
              <a:rPr b="0" lang="en-US" sz="2000" spc="-1" strike="noStrike">
                <a:solidFill>
                  <a:srgbClr val="9a0000"/>
                </a:solidFill>
                <a:latin typeface="Georgia"/>
              </a:rPr>
              <a:t>CANC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econd leading cause of death in U.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ancer cells do not respond to the signals that regulate the growth of most cells (</a:t>
            </a:r>
            <a:r>
              <a:rPr b="0" lang="en-US" sz="1800" spc="-1" strike="noStrike">
                <a:solidFill>
                  <a:srgbClr val="336699"/>
                </a:solidFill>
                <a:latin typeface="Georgia"/>
              </a:rPr>
              <a:t>error in the cell cycl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ancer cells do not show contact inhibition– development of tumor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ancer cells may break loose from tumors and spread throughout the body, disrupting normal activities and/ or depriving health cells of vital nutrients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any cancer cells have a defect in a gene called </a:t>
            </a:r>
            <a:r>
              <a:rPr b="0" lang="en-US" sz="1800" spc="-1" strike="noStrike">
                <a:solidFill>
                  <a:srgbClr val="9a0000"/>
                </a:solidFill>
                <a:latin typeface="Georgia"/>
              </a:rPr>
              <a:t>p53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hich normally halts the cycle until all chromosomes have been replicated– chromosome damage accumulates– cells are unable to respond to regulatory signals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www.ncbi.nlm.nih.gov/books/NBK22268/bin/p53.jpg"/>
          <p:cNvPicPr/>
          <p:nvPr/>
        </p:nvPicPr>
        <p:blipFill>
          <a:blip r:embed="rId1"/>
          <a:stretch/>
        </p:blipFill>
        <p:spPr>
          <a:xfrm>
            <a:off x="304920" y="228600"/>
            <a:ext cx="3047760" cy="3465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http://www.barrettsinfo.com/figures/cycle-p53.gif"/>
          <p:cNvPicPr/>
          <p:nvPr/>
        </p:nvPicPr>
        <p:blipFill>
          <a:blip r:embed="rId2"/>
          <a:stretch/>
        </p:blipFill>
        <p:spPr>
          <a:xfrm>
            <a:off x="4572000" y="152280"/>
            <a:ext cx="3714840" cy="3448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http://www.p53.at/images/1788.gif"/>
          <p:cNvPicPr/>
          <p:nvPr/>
        </p:nvPicPr>
        <p:blipFill>
          <a:blip r:embed="rId3"/>
          <a:stretch/>
        </p:blipFill>
        <p:spPr>
          <a:xfrm>
            <a:off x="2895480" y="3581280"/>
            <a:ext cx="3105360" cy="24004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1371600" y="602784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www.p53.at/main.asp?VID=1&amp;kat1=45&amp;kat2=388&amp;kat3=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Meiosis </a:t>
            </a:r>
            <a:br>
              <a:rPr sz="4400"/>
            </a:b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(Gametogenesis)</a:t>
            </a: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pecial type of cell division reserved exclusively for the formation of gametes (egg and sperm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38840" indent="-438840">
              <a:spcBef>
                <a:spcPts val="60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Halves (cuts in half) the diploid chromosome number (in germ cell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38840" indent="-438840">
              <a:spcBef>
                <a:spcPts val="60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Establishes genetic divers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38840" indent="-438840">
              <a:spcBef>
                <a:spcPts val="601"/>
              </a:spcBef>
              <a:buClr>
                <a:srgbClr val="9a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sists of two separate divisions, known as Meiosis I and Meiosis I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06" name="Picture 8" descr="http://www.indigo.com/software/gphpcd/em23.jpg"/>
          <p:cNvPicPr/>
          <p:nvPr/>
        </p:nvPicPr>
        <p:blipFill>
          <a:blip r:embed="rId1"/>
          <a:srcRect l="6000" t="0" r="10004" b="0"/>
          <a:stretch/>
        </p:blipFill>
        <p:spPr>
          <a:xfrm>
            <a:off x="5715000" y="2286000"/>
            <a:ext cx="3200400" cy="285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http://www.bio.miami.edu/dana/250/gametogenesis.jpg"/>
          <p:cNvPicPr/>
          <p:nvPr/>
        </p:nvPicPr>
        <p:blipFill>
          <a:blip r:embed="rId1"/>
          <a:stretch/>
        </p:blipFill>
        <p:spPr>
          <a:xfrm>
            <a:off x="2743200" y="1371600"/>
            <a:ext cx="4556160" cy="52927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-137160"/>
            <a:ext cx="816264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Spermatogenesis vs. Oogenesis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http://ghr.nlm.nih.gov/dynamicImages/understandGenetics/basics/MitosisMeiosis.jpg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6027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 diploid cell (2n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6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double-strande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hromosom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eorgia"/>
              </a:rPr>
              <a:t>(Meiosis I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 haploid cells (n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3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double-strande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hromosom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eorgia"/>
              </a:rPr>
              <a:t>(Meiosis II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 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genetically differ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haploi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ells (n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3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single-strande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hromosom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nterphas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eorgia"/>
              </a:rPr>
              <a:t>Prophase I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eorgia"/>
              </a:rPr>
              <a:t>Metaphase I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eorgia"/>
              </a:rPr>
              <a:t>Anaphase I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eorgia"/>
              </a:rPr>
              <a:t>Telophase I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terkinesis (No Interphase between Meiosis I and II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eorgia"/>
              </a:rPr>
              <a:t>Prophase II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eorgia"/>
              </a:rPr>
              <a:t>Metaphase II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eorgia"/>
              </a:rPr>
              <a:t>Anaphase II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eorgia"/>
              </a:rPr>
              <a:t>Telophase II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Prophase I: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hromosomes condense and become visi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ynapsis occurs (a pair of homologous chromosomes lines up closely together)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tetrad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is formed. Each tetrad is composed of four chromatids. (23 tetrad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rossing over may occu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imilar to mitosis, the centrioles migrate away from one another and both the nuclear envelope and nucleoli break dow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ikewise, the chromosomes begin their migration to the metaphase plat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ndisjunct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14" name="Picture 2" descr="http://www3.moe.edu.sg/edsoftware/ir/files/bio-meiosis/glossary/tetrad.jpg"/>
          <p:cNvPicPr/>
          <p:nvPr/>
        </p:nvPicPr>
        <p:blipFill>
          <a:blip r:embed="rId1"/>
          <a:stretch/>
        </p:blipFill>
        <p:spPr>
          <a:xfrm>
            <a:off x="7238880" y="1295280"/>
            <a:ext cx="1743120" cy="11811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http://www.sciencecases.org/mitosis_meiosis/images/meiosis_a.gif"/>
          <p:cNvPicPr/>
          <p:nvPr/>
        </p:nvPicPr>
        <p:blipFill>
          <a:blip r:embed="rId2"/>
          <a:stretch/>
        </p:blipFill>
        <p:spPr>
          <a:xfrm>
            <a:off x="4267080" y="152280"/>
            <a:ext cx="333396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Metaphase I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3 Tetrads align at the metaphase pla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18" name="Picture 2" descr="http://www.sciencecases.org/mitosis_meiosis/images/meiosis_b.gif"/>
          <p:cNvPicPr/>
          <p:nvPr/>
        </p:nvPicPr>
        <p:blipFill>
          <a:blip r:embed="rId1"/>
          <a:stretch/>
        </p:blipFill>
        <p:spPr>
          <a:xfrm>
            <a:off x="2971800" y="3352680"/>
            <a:ext cx="33336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3" descr="http://www.blc.arizona.edu/courses/181summer/graphics/graphics%20lect5/Life7e-Fig-04-03-0%20cell%20surface%20area%20to%20volume%20rati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Anaphase I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3 double-stranded chromosomes move to the opposite cell pole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milar to mitosis, the microtubules and the kinetochore fibers interact to cause the moveme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like in mitosis, the homologous chromosomes move to opposite poles yet the sister chromatids remain togeth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21" name="Picture 2" descr="http://www.sciencecases.org/mitosis_meiosis/images/meiosis_c.gif"/>
          <p:cNvPicPr/>
          <p:nvPr/>
        </p:nvPicPr>
        <p:blipFill>
          <a:blip r:embed="rId1"/>
          <a:stretch/>
        </p:blipFill>
        <p:spPr>
          <a:xfrm>
            <a:off x="5257800" y="4648320"/>
            <a:ext cx="333360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Telophase I: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912600" y="1904760"/>
            <a:ext cx="81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nce movement is complete, each pole has a haploid number of chromosom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most cases, cytokinesis occurs at the same time as telophase I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t the end of telophase I and cytokinesis, two daughter cells are produced, each with half the number of chromosomes of the original parent cell. (23 double-stranded chromosome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24" name="Picture 4" descr="Teleophase I"/>
          <p:cNvPicPr/>
          <p:nvPr/>
        </p:nvPicPr>
        <p:blipFill>
          <a:blip r:embed="rId1"/>
          <a:stretch/>
        </p:blipFill>
        <p:spPr>
          <a:xfrm>
            <a:off x="4381560" y="304920"/>
            <a:ext cx="476244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Prophase II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nuclear membrane and nuclei break up while the spindle network appears. (just like mitosi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romosomes do not replicate any further in this phase of meiosi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romosomes begin migrating to the metaphase II plate (at the cell's equator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27" name="Picture 2" descr="http://www.sciencecases.org/mitosis_meiosis/images/meiosis_e.gif"/>
          <p:cNvPicPr/>
          <p:nvPr/>
        </p:nvPicPr>
        <p:blipFill>
          <a:blip r:embed="rId1"/>
          <a:stretch/>
        </p:blipFill>
        <p:spPr>
          <a:xfrm>
            <a:off x="4800600" y="304920"/>
            <a:ext cx="3809880" cy="1647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Metaphase II: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23 double-stranded chromosomes line up at the metaphase II plate at the cell's cent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30" name="Picture 2" descr="Metaphase II"/>
          <p:cNvPicPr/>
          <p:nvPr/>
        </p:nvPicPr>
        <p:blipFill>
          <a:blip r:embed="rId1"/>
          <a:stretch/>
        </p:blipFill>
        <p:spPr>
          <a:xfrm>
            <a:off x="2666880" y="3809880"/>
            <a:ext cx="3762360" cy="1714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Anaphase II: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sister chromatids separate and move toward the opposite cell pole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23 single-stranded chromosomes move in each direc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33" name="Picture 2" descr="Anaphase II"/>
          <p:cNvPicPr/>
          <p:nvPr/>
        </p:nvPicPr>
        <p:blipFill>
          <a:blip r:embed="rId1"/>
          <a:stretch/>
        </p:blipFill>
        <p:spPr>
          <a:xfrm>
            <a:off x="4191120" y="4495680"/>
            <a:ext cx="356220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Telophase II: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76176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tinct nuclei form at the opposite poles and cytokinesis occur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the end of meiosis II, there are four daughter cells each with half the number of chromosomes of the original parent cell. (haploid = 23 single-stranded chromosome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ach daughter cell is genetically differ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36" name="Picture 2" descr="Telophase II"/>
          <p:cNvPicPr/>
          <p:nvPr/>
        </p:nvPicPr>
        <p:blipFill>
          <a:blip r:embed="rId1"/>
          <a:stretch/>
        </p:blipFill>
        <p:spPr>
          <a:xfrm>
            <a:off x="3581280" y="152280"/>
            <a:ext cx="5048280" cy="1895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http://www.brookings.k12.sd.us/biology/images/crossingover_movie.gif"/>
          <p:cNvPicPr/>
          <p:nvPr/>
        </p:nvPicPr>
        <p:blipFill>
          <a:blip r:embed="rId1"/>
          <a:stretch/>
        </p:blipFill>
        <p:spPr>
          <a:xfrm>
            <a:off x="2438280" y="12952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Why Meiosis?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ncrease in genetic vari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ossing-ov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trad form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ndisjunc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exual vs. Sexual Reprodu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0" name="Picture 4" descr="http://opbs.okstate.edu/~petracek/Chapter%2025%20figures/Fig%2025-28.JPG"/>
          <p:cNvPicPr/>
          <p:nvPr/>
        </p:nvPicPr>
        <p:blipFill>
          <a:blip r:embed="rId1"/>
          <a:stretch/>
        </p:blipFill>
        <p:spPr>
          <a:xfrm>
            <a:off x="3886200" y="4038480"/>
            <a:ext cx="50515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Spherical Cell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urface Area = 4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Volume = 4/3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4" name="Picture 2" descr="http://www.k12math.com/math-concepts/algebra/volumes/sphere.png"/>
          <p:cNvPicPr/>
          <p:nvPr/>
        </p:nvPicPr>
        <p:blipFill>
          <a:blip r:embed="rId1"/>
          <a:stretch/>
        </p:blipFill>
        <p:spPr>
          <a:xfrm>
            <a:off x="6172200" y="1905120"/>
            <a:ext cx="276228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If cell size is doubled. . .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The cell would require eight times more nutrients and would produce eight times more waste produc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rface area only increases by four tim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t enough plasma membrane to diffuse oxygen, nutrients, and was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d rate of metabolis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t enough DNA, not enough RNA, not enough protei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ll Deat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arger cells sometimes contain more DNA (multiple nuclei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arvation or Poison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Beating the SA/V Problem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ometric Solutio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longate or flatten out (spheres have large SA/V ratio) (red blood cell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ld the surface area (amoeba, microvilli, crista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ollow the center of cell (less cytoplasm, less metabolic demand) (large central vacuol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ing rate of supp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ek out areas where nutrient concentrations are hig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ctively acquire bulk nutrients (taking in vacuole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mprove transportation of nutrients within cel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prove efficiency to reduce dema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ivision of labor within cell (organelle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ivision of labor between cel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voidance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y Small (DIVIDE!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7T16:21:33Z</dcterms:created>
  <dc:creator>CASSANO</dc:creator>
  <dc:description/>
  <dc:language>en-US</dc:language>
  <cp:lastModifiedBy>cassano</cp:lastModifiedBy>
  <dcterms:modified xsi:type="dcterms:W3CDTF">2014-03-20T17:24:18Z</dcterms:modified>
  <cp:revision>25</cp:revision>
  <dc:subject/>
  <dc:title>Chapter 7- (Part II)  Cell Growth and Division </dc:title>
</cp:coreProperties>
</file>